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F39-A7EF-419C-81D6-85214342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CB4-4137-4869-8048-15DCA28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CB1-F207-47FA-91D3-C02D1E44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FAA-7913-4762-8120-97E644D7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522C-24FD-4A6C-97FA-0AC4F0F2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ABD-0761-4E6E-A4B4-279C075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62C6-22D7-4A64-885A-39E9353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FE93-2595-42CA-99F2-7A49C784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B2D0-4E32-436A-91C9-975D55A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608-0BDD-4312-A4E6-EDD40FD5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716B-D262-47FB-8986-A5817FD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3DB-F614-406B-BDC2-688D462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3397-FD98-4E8B-BA7B-2994A2B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607C-3DFF-4DEE-9A19-0D8D4A1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1C88-B9A9-42DE-ACD6-EEA9FBE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F7D1-DE96-4DC5-B1D4-F157B4FF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858C-84A8-4C11-B79D-0F2358A3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2D7E-00C7-4F0B-9854-0BD32DC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3516D-2A61-4830-9036-73B9E88F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58B9-E4C8-4B66-9F74-8B3F948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496B-727A-4F3C-ADDD-C2D2BDA8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1D3-1084-40E5-8AD7-6751992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2E6-9099-4390-839D-221434BC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6784-0C05-457D-B680-7AD93F7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7951-B9A9-44AF-864D-FF62E6C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7EF0-DC63-40ED-9283-05FD607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782E-17DE-4918-8CD3-3D82249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B8A2-2B19-4E27-9266-58936126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D2EB-3011-4E71-A414-49F8FE5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F5C8-AB5F-4E8D-A40C-9A5ECAA8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5706-CC37-4D03-8E41-C93B25C8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4EF7-6BC9-4E89-9677-C22B10C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53B2-BE47-4B63-81AE-45A7BD0A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3AC-7F9F-4929-AB91-7C0D239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0C1B8-1F51-4D85-85BE-10ED9759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6921-45B0-42EE-9048-1B66558F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6172-0140-4700-A1F8-72A554AD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4FA92-0657-49DD-8A88-156FB0B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A527-529B-4D32-A4DF-4BCF6D6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07F6-F979-458C-8A6B-6C9A922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D447-BF11-4397-819B-B935708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F23A4-7237-4829-BA60-85DEB268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3CCB-6143-4556-B866-36836B12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C477-5E45-499B-B72D-97EEF528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1F2-19E7-460F-BBB0-35CAA2A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9C230-3E98-43A6-8777-F03D9F8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BEC4-025E-47AE-82BC-08A89BD8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4939-2A22-42F3-B3E8-7CD4A976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07F4-8134-42AC-9202-12A53A0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C5F0B-01AB-404A-BF7C-99DDAD6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47CE-820F-42E5-88EB-51F2896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FA11-46FC-45B3-AAE8-D7A57DD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4AD25-C1AB-4ACF-BC6D-A0F421C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D4CE-65A4-4820-8671-7247963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BAA4-6A9E-4F03-94AF-22DDA6FA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229-78B6-43B8-ACFA-3A26D223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2FE8-11AD-4F99-B989-89F9B28C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7F4C-28F4-46CA-92F3-12538651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B209-5BE2-415D-B225-D30564F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3FAED-7F30-4071-8E33-99624BD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F236F-A6C4-47D7-9773-93882ABA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F79DF-FA1D-485C-B5CE-78C57EC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FF54-AA4D-4A7B-97A6-D7A8AF0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4506-8099-469A-9689-588B56E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9C02-B969-49EA-9727-75A77AA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4746-EC5E-4146-B04B-582B9C7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261-7372-4B40-99A2-EE9BDC4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7EBD-1277-4A8D-B800-D552821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F118-C88E-421B-8973-4128C333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DB6A-4781-4593-83C7-39A8B64E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7C51B-EFD1-4DF1-9A25-CCB02389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2AF3-2B2C-4D8E-9D2D-E23C608A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4319-3521-4A3B-A058-AD5190E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8595-4E95-4A22-990B-B1C61DB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EEF76-D443-42DA-A89D-11629FE4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F411D-E817-4FFA-9BF4-8583D552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F7DE-810A-44BC-98C5-4904CEC7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6F4-047B-4740-8A0E-9B475715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9B63B-2D3D-4D7C-BD8F-A782E36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35F4-CCA0-4938-842E-C994E99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BC052-6383-4E22-AEA0-F1516AE4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2217B-D1DD-4B3C-8631-B335D6D4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D2A51-6BBD-4344-949A-87FE5AFB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DC5D-E51A-498D-988D-DCD35350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8E604-A20F-42C2-999C-6E0E7787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2DF6F-4F65-44AA-A5AA-DD0938F8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A0BE-152B-4CC5-B501-D4E8208A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4C13-70E5-4CD5-90A1-6BEA8CE0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302-1018-4A4A-BF41-BC10A1C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E6197-130C-4C42-A62A-662F4C4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F432-F24E-475C-B486-44D098B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3449-000A-4570-B03E-29D6076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7697-AC4E-495F-B5E1-6370E05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D3A9-19FB-41CF-A782-F76E04E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D97FF-6D53-44FA-A96A-EFC71BE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539A7-2FBD-4BBF-A09B-7744BF16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34A1-8360-45B6-A14C-60D66366AC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6FE-2A23-4741-84BD-221EB579AA8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4290-6CC0-44C9-A972-7ECCAAAB76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A77-6EAD-4083-91DF-25D04FC218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1E1-1197-4D9E-A2C1-4751D877D3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830-8279-4846-B92C-C44F8161C0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23B0-C22B-4DE8-AA4B-864D43C4AF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CE38-9189-4010-ABDC-D007DB7FD8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182600"/>
            <a:ext cx="81266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бственники, принявшие решение о формировании фонда капремонта на счете регоператора, обязаны заключить с регоператором договор о формировании фонда капитального ремонта и об организации проведения капитального ремонта. При этом собственники, обладающие более чем 50% голосов выступают в качестве одной стороны заключаемого догово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гоператор обязан направить проект договора собственникам в течение 10 дней с даты получения копии протокола общего собр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плата собственником взноса на капремонт на счет регоператора после получения им проекта такого договора считается его заключени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формирования фонда на счете регоператора собственники будут перечислять взносы на капремонт на его счет на основании отдельных платежных документов, предоставляемых регоператором до 20-го числа месяца, следующего за расчетны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случае формирования фонда на  спец.счете взносы на капремонт будут перечисляться на такой спец.счет на основании отдельных платежных документов, предоставляемых владельцем спец.счета в сроки, установленные для внесения платы за жилое помещение и коммунальные услу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гиональный оператор, владелец спец.счета вправе уполномочить третье лицо на предоставление платежных докумен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14360" y="249120"/>
            <a:ext cx="8400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7"/>
          <p:cNvSpPr/>
          <p:nvPr/>
        </p:nvSpPr>
        <p:spPr>
          <a:xfrm>
            <a:off x="1187280" y="2122560"/>
            <a:ext cx="6840720" cy="5205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имальный размер взноса (МР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трелка вниз 9"/>
          <p:cNvSpPr/>
          <p:nvPr/>
        </p:nvSpPr>
        <p:spPr>
          <a:xfrm>
            <a:off x="6516720" y="2698920"/>
            <a:ext cx="431640" cy="129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324000" y="4083120"/>
            <a:ext cx="4176720" cy="1983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Р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обходимый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5,06 до 17,10 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 зависимости от типа МК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"/>
          <p:cNvSpPr/>
          <p:nvPr/>
        </p:nvSpPr>
        <p:spPr>
          <a:xfrm>
            <a:off x="4643280" y="4062240"/>
            <a:ext cx="4176720" cy="216684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Р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ступ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ляет 6 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 соответствии с федеральным стандар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трелка вниз 14"/>
          <p:cNvSpPr/>
          <p:nvPr/>
        </p:nvSpPr>
        <p:spPr>
          <a:xfrm>
            <a:off x="2195640" y="2698920"/>
            <a:ext cx="431640" cy="12967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Box 8"/>
          <p:cNvGrpSpPr/>
          <p:nvPr/>
        </p:nvGrpSpPr>
        <p:grpSpPr>
          <a:xfrm>
            <a:off x="182520" y="208080"/>
            <a:ext cx="8778960" cy="1358640"/>
            <a:chOff x="182520" y="208080"/>
            <a:chExt cx="8778960" cy="1358640"/>
          </a:xfrm>
        </p:grpSpPr>
        <p:pic>
          <p:nvPicPr>
            <p:cNvPr id="415" name="TextBox 8" descr=""/>
            <p:cNvPicPr/>
            <p:nvPr/>
          </p:nvPicPr>
          <p:blipFill>
            <a:blip r:embed="rId1"/>
            <a:stretch/>
          </p:blipFill>
          <p:spPr>
            <a:xfrm>
              <a:off x="182520" y="208080"/>
              <a:ext cx="87789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324000" y="312840"/>
              <a:ext cx="849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инимальный размер взнос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а капремо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едение капремонта осуществляется на основании решения общего собрания собственников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менее чем за 6 месяцев до наступления года, в течение которого должен быть проведен капитальный ремонт, лицо, осуществляющее управление МКД или оказание услуг и (или) выполнение работ по содержанию и ремонту общего имущества в МКД, либо регоператор представляет таким собственникам предложения о сроке начала капремонта, необходимом перечне и об объеме услуг и (или) работ, их стоимости, о порядке и об источниках финансирования кап ремонта и другие предложения, связанные с проведением такого капремо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ственники не позднее чем через 3 месяца с момента получения предложений обязаны их рассмотреть и принять на общем собрании соответствующее реш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лучае если в трехмесячный срок собственники не приняли решение о проведении капремонта, ОМС в течение 1 месяца с даты истечения обозначенного срока принимает решение о проведении такого капремонта в соответствии с рег.программой и предложениями регоператора (о принятии соответствующего решения ОМС уведомляет регоператора и собственников в течение 5 дней с даты принятия этого реш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55736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) утверди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перечень работ по капремон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смету расходов на капремон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сроки проведения капремо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) определить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источники финансирования капремо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лицо, которое от имени всех собственников уполномочено участвовать в приемке выполненных рабо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Заголовок 2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Регоператор открывает счет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в российских кредитных организациях, размер капитала которых не менее чем двадцать миллиардов рубл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о результатам конкурса на выбор кредитной организ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Заголовок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Содержимое 3" descr=""/>
          <p:cNvPicPr/>
          <p:nvPr/>
        </p:nvPicPr>
        <p:blipFill>
          <a:blip r:embed="rId1"/>
          <a:stretch/>
        </p:blipFill>
        <p:spPr>
          <a:xfrm>
            <a:off x="401760" y="901800"/>
            <a:ext cx="8199360" cy="5200560"/>
          </a:xfrm>
          <a:prstGeom prst="rect">
            <a:avLst/>
          </a:prstGeom>
          <a:ln w="0">
            <a:noFill/>
          </a:ln>
        </p:spPr>
      </p:pic>
      <p:pic>
        <p:nvPicPr>
          <p:cNvPr id="42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О ЮниКреди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анк ЗАО АКБ "ЦентроКредит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ОО "ХКФ 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МДМ 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АБ "РОССИЯ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ПБ (ОАО) ОАО "Банк "Санкт-Петербург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МИнБ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Банк ВТБ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АЛЬФА-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анк "Возрождение" (ОАО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КБ "Восточный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АКБ "Связь-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Сбербанк России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ТБ 24 (ЗАО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Банк "Петрокоммерц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ОО "Русфинанс 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О "ГЛОБЭКСБАНК"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ХАНТЫ-МАНСИЙСКИЙ БАНК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АО "МОСКОВСКИЙ КРЕДИТНЫЙ БАНК«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Банк "ОТКРЫТИЕ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НОМОС-БАНК" (ОА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МТС-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АКБ "РОС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УРАЛСИБ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 "Банк Русский Стандарт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ИНГ БАНК (ЕВРАЗ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" ЗАО АКБ "НОВИКОМ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 КБ "Сити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БИН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АК БАРС" БА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Банк Москвы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ОТП 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Нордеа 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Промсвязь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Банк ЗЕНИТ НБ "ТРАСТ" (ОА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 "Райффайзен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 "КРЕДИТ ЕВРОПА 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МСП Банк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АО "Россельхозбанк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О АКБ "Национальный Клиринговый Центр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денежными средтвами фонда в случае накопления их на спец.счете осуществляются банком по указанию владельца спец.счета при предоставлении необходимых документов, в том числе протокола общего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к и владелец спец.счета предоставляют по требованию любого собственника информацию о сумме зачисленных на счет платежей, об остатке средств, о всех операциях по данному спец.сч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енежные средства, находящиеся на спец.счете, не может быть обращено взыскание по обязательствам владельца этого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лучае признания владельца спец.счета банкротом денежные средства, находящиеся на спец.счете, не включаются в конкурсную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Заголовок 2" descr=""/>
          <p:cNvPicPr/>
          <p:nvPr/>
        </p:nvPicPr>
        <p:blipFill>
          <a:blip r:embed="rId1"/>
          <a:stretch/>
        </p:blipFill>
        <p:spPr>
          <a:xfrm>
            <a:off x="401760" y="165240"/>
            <a:ext cx="8431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троль за соответствием деятельности регоператора установленным требованиям, целевым расходованием средств фонда осуществляется министер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ы гос.фин.контроля ВО и органы мун.фин.контроля мун.образований, Счетная палата РФ, КСП и фин.органы ВО и мун.образований осуществляют фин.контроль за использованием регоператором сред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нешний фин.контроль за деятельностью регоператора осуществляет КСП 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2" descr=""/>
          <p:cNvPicPr/>
          <p:nvPr/>
        </p:nvPicPr>
        <p:blipFill>
          <a:blip r:embed="rId1"/>
          <a:stretch/>
        </p:blipFill>
        <p:spPr>
          <a:xfrm>
            <a:off x="401760" y="165240"/>
            <a:ext cx="8431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2360" y="2565360"/>
            <a:ext cx="864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ГИОНАЛЬНАЯ ПРОГРАММА КАПРЕМОНТА СОДЕРЖИ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Схема 3" descr=""/>
          <p:cNvPicPr/>
          <p:nvPr/>
        </p:nvPicPr>
        <p:blipFill>
          <a:blip r:embed="rId1"/>
          <a:stretch/>
        </p:blipFill>
        <p:spPr>
          <a:xfrm>
            <a:off x="255600" y="3097080"/>
            <a:ext cx="8480520" cy="3705480"/>
          </a:xfrm>
          <a:prstGeom prst="rect">
            <a:avLst/>
          </a:prstGeom>
          <a:ln w="0">
            <a:noFill/>
          </a:ln>
        </p:spPr>
      </p:pic>
      <p:grpSp>
        <p:nvGrpSpPr>
          <p:cNvPr id="373" name="TextBox 4"/>
          <p:cNvGrpSpPr/>
          <p:nvPr/>
        </p:nvGrpSpPr>
        <p:grpSpPr>
          <a:xfrm>
            <a:off x="182520" y="12600"/>
            <a:ext cx="8778960" cy="804960"/>
            <a:chOff x="182520" y="12600"/>
            <a:chExt cx="8778960" cy="804960"/>
          </a:xfrm>
        </p:grpSpPr>
        <p:pic>
          <p:nvPicPr>
            <p:cNvPr id="374" name="TextBox 4" descr=""/>
            <p:cNvPicPr/>
            <p:nvPr/>
          </p:nvPicPr>
          <p:blipFill>
            <a:blip r:embed="rId2"/>
            <a:stretch/>
          </p:blipFill>
          <p:spPr>
            <a:xfrm>
              <a:off x="182520" y="12600"/>
              <a:ext cx="8778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24000" y="115920"/>
              <a:ext cx="84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егиональная програм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Схема 6" descr=""/>
          <p:cNvPicPr/>
          <p:nvPr/>
        </p:nvPicPr>
        <p:blipFill>
          <a:blip r:embed="rId3"/>
          <a:stretch/>
        </p:blipFill>
        <p:spPr>
          <a:xfrm>
            <a:off x="1231920" y="804960"/>
            <a:ext cx="67294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450720" y="2639880"/>
            <a:ext cx="82425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утридомовых инженерных систем электро-, тепло-, газо-, водоснабжения, водоот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 или замена лифтового обору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 крыш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 подвальных поме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епление и (или) ремонт фасада, в том числе ремонт или замена бал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ка коллективных (общедомовых) приборов учета потребления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монт фундамента многоквартирног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ые рабо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смотренные Зако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проек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дение государственной экспертизы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строительного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В первую очередь в программу включаются МКД исходя из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проведения (непроведения) капремонта на дату приватизации первого жилого поме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года ввода в эксплуатацию многоквартирного до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даты последнего проведения капитального ремонта многоквартирного дом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) полноты поступлений взносов на капитальный ремонт собственников помещений в многоквартирном до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хема 4" descr=""/>
          <p:cNvPicPr/>
          <p:nvPr/>
        </p:nvPicPr>
        <p:blipFill>
          <a:blip r:embed="rId1"/>
          <a:stretch/>
        </p:blipFill>
        <p:spPr>
          <a:xfrm>
            <a:off x="146160" y="1633680"/>
            <a:ext cx="8888400" cy="5084640"/>
          </a:xfrm>
          <a:prstGeom prst="rect">
            <a:avLst/>
          </a:prstGeom>
          <a:ln w="0">
            <a:noFill/>
          </a:ln>
        </p:spPr>
      </p:pic>
      <p:grpSp>
        <p:nvGrpSpPr>
          <p:cNvPr id="384" name="TextBox 6"/>
          <p:cNvGrpSpPr/>
          <p:nvPr/>
        </p:nvGrpSpPr>
        <p:grpSpPr>
          <a:xfrm>
            <a:off x="182520" y="371520"/>
            <a:ext cx="8778960" cy="804960"/>
            <a:chOff x="182520" y="371520"/>
            <a:chExt cx="8778960" cy="804960"/>
          </a:xfrm>
        </p:grpSpPr>
        <p:pic>
          <p:nvPicPr>
            <p:cNvPr id="385" name="TextBox 6" descr=""/>
            <p:cNvPicPr/>
            <p:nvPr/>
          </p:nvPicPr>
          <p:blipFill>
            <a:blip r:embed="rId2"/>
            <a:stretch/>
          </p:blipFill>
          <p:spPr>
            <a:xfrm>
              <a:off x="182520" y="371520"/>
              <a:ext cx="8778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24000" y="476280"/>
              <a:ext cx="84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егиональный опер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315280" cy="16765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9"/>
          <p:cNvSpPr/>
          <p:nvPr/>
        </p:nvSpPr>
        <p:spPr>
          <a:xfrm>
            <a:off x="1403280" y="1773360"/>
            <a:ext cx="6337440" cy="91692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ственники помещений в МКД на общем собр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22.07.2014 должны определиться со способом формирования фонда капитального ремонта МК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5"/>
          <p:cNvSpPr/>
          <p:nvPr/>
        </p:nvSpPr>
        <p:spPr>
          <a:xfrm>
            <a:off x="1403280" y="3068640"/>
            <a:ext cx="3168720" cy="10674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СПЕЦ. СЧЕТЕ В БАНКЕ (владельцем спец. счета может быть ТСЖ/ЖСК либо рег. операт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6"/>
          <p:cNvSpPr/>
          <p:nvPr/>
        </p:nvSpPr>
        <p:spPr>
          <a:xfrm>
            <a:off x="4643280" y="3068640"/>
            <a:ext cx="3168720" cy="10674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ГИОНАЛЬНЫЙ ОПЕРА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общий счет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низ 17"/>
          <p:cNvSpPr/>
          <p:nvPr/>
        </p:nvSpPr>
        <p:spPr>
          <a:xfrm>
            <a:off x="6300720" y="278136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низ 18"/>
          <p:cNvSpPr/>
          <p:nvPr/>
        </p:nvSpPr>
        <p:spPr>
          <a:xfrm>
            <a:off x="2556000" y="278136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трелка вниз 19"/>
          <p:cNvSpPr/>
          <p:nvPr/>
        </p:nvSpPr>
        <p:spPr>
          <a:xfrm>
            <a:off x="2771640" y="422100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низ 20"/>
          <p:cNvSpPr/>
          <p:nvPr/>
        </p:nvSpPr>
        <p:spPr>
          <a:xfrm>
            <a:off x="6300720" y="422100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1476360" y="4437000"/>
            <a:ext cx="3095640" cy="10065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случае если владельцем спецсчета определен регоператор копия протокола должна быть направлена собственниками в его адр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4"/>
          <p:cNvSpPr/>
          <p:nvPr/>
        </p:nvSpPr>
        <p:spPr>
          <a:xfrm>
            <a:off x="4716360" y="4508640"/>
            <a:ext cx="3168720" cy="5202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пия протокола должна быть направлена регоперат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трелка вниз 25"/>
          <p:cNvSpPr/>
          <p:nvPr/>
        </p:nvSpPr>
        <p:spPr>
          <a:xfrm>
            <a:off x="2771640" y="530064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6"/>
          <p:cNvSpPr/>
          <p:nvPr/>
        </p:nvSpPr>
        <p:spPr>
          <a:xfrm>
            <a:off x="1476360" y="5589720"/>
            <a:ext cx="3095640" cy="100656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лец специального счета в течении 5 дней после открытия спецсчета обязан представить в ГЖИ уведомление с приложением копии протокола общего собр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27"/>
          <p:cNvSpPr/>
          <p:nvPr/>
        </p:nvSpPr>
        <p:spPr>
          <a:xfrm>
            <a:off x="6227640" y="5084640"/>
            <a:ext cx="46080" cy="250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8"/>
          <p:cNvSpPr/>
          <p:nvPr/>
        </p:nvSpPr>
        <p:spPr>
          <a:xfrm>
            <a:off x="4788000" y="5445000"/>
            <a:ext cx="3097080" cy="11890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гоператор обязан представлять в ГЖИ сведения о МКД, собственники помещений в которых формируют фонды капитального ремонта на счете, счетах регопера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55736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обственники должны инициировать и провести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формить решение путем составления прото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править копию протокола региональному операт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Довести до остальных собственников МКД решения, принятые на общем собр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, если собственники не провели собрание, это должен сделать ОМС. При этом, ОМС принимает решение о формировании фонда капитального ремонта на счете регионального опер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450720" y="19080"/>
            <a:ext cx="824256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5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2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8429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43:24Z</dcterms:created>
  <dc:creator>Исайчева</dc:creator>
  <dc:description/>
  <dc:language>en-US</dc:language>
  <cp:lastModifiedBy>ny_ivanova</cp:lastModifiedBy>
  <dcterms:modified xsi:type="dcterms:W3CDTF">2014-03-28T10:22:28Z</dcterms:modified>
  <cp:revision>113</cp:revision>
  <dc:subject/>
  <dc:title>ОРГАНИЗАЦИЯ ПРОВЕДЕНИЯ КАПИТАЛЬНОГО РЕМОНТА НА ТЕРРИТОРИИ ВОЛГОГРАДСКОЙ ОБЛАСТИ</dc:title>
</cp:coreProperties>
</file>